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88B-4641-49AF-ABDD-1D887CF0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4E8-C9FC-48D7-BFB3-5F1C17D1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607-1C4C-45E7-AD64-559419A6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30C-3E8C-4D11-94CE-5473DE6E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3D6-3AFE-4DC0-9465-B80BE352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134-ADDA-4F23-A0DF-6781B6B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10C-0A15-4814-BA29-1B62C791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953-71BF-441D-8D44-DF3F83D2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18C-2433-41FD-8F02-C0DD3FD4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E7A-41B2-43DE-AFCD-10B8B48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F41-F4C5-4894-9D24-EBDAD5DE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9BA-97FF-470C-AA0C-BF597F5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E5E2-4B71-42BE-94A2-ACB365B71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-365040" y="1316160"/>
            <a:ext cx="9167760" cy="11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t2.gstatic.com/images?q=tbn:ANd9GcTfO3iPSaTi0MK55Mx4Ejd8eNC0MQ9LSFYG0N3tjsKAJ9liRHE1rJh4SmgO"/>
          <p:cNvPicPr/>
          <p:nvPr/>
        </p:nvPicPr>
        <p:blipFill>
          <a:blip r:embed="rId2"/>
          <a:stretch/>
        </p:blipFill>
        <p:spPr>
          <a:xfrm>
            <a:off x="2057400" y="2733840"/>
            <a:ext cx="54864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t3.gstatic.com/images?q=tbn:ANd9GcQ8MZNXKSLEEAjm4HE0gtPJ31KGTBQXAKqoP70_a147DS-UBvGn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 affecting the clim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t0.gstatic.com/images?q=tbn:ANd9GcRuo1S5dvvQoaOc_adaqwrpum5JiROsrxTcfFKn5nNzqXGPyeEJoA2JNvnsTA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 burlap bags, ec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http://t1.gstatic.com/images?q=tbn:ANd9GcQVh5LdH4YppUqH0HFvim3DYFwC721A85ymCOlkZJZD7CM88Raw"/>
          <p:cNvPicPr/>
          <p:nvPr/>
        </p:nvPicPr>
        <p:blipFill>
          <a:blip r:embed="rId1"/>
          <a:stretch/>
        </p:blipFill>
        <p:spPr>
          <a:xfrm>
            <a:off x="1828800" y="1676520"/>
            <a:ext cx="54100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www.indiamike.com/files/images/80/92/11/cottage-industry-triplicane.preview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4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nataliepeart.files.wordpress.com/2011/10/caste_system-oo4t9n.jpg"/>
          <p:cNvPicPr/>
          <p:nvPr/>
        </p:nvPicPr>
        <p:blipFill>
          <a:blip r:embed="rId1"/>
          <a:stretch/>
        </p:blipFill>
        <p:spPr>
          <a:xfrm>
            <a:off x="914400" y="1219320"/>
            <a:ext cx="7130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birth of a person’s  soul in a new  body  after  dea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t2.gstatic.com/images?q=tbn:ANd9GcTejyEWqhT7zXB2_xlfzQAPT6MLcg8kQ3UP_2eoXNU4Ezv_YbnD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3" descr="http://t0.gstatic.com/images?q=tbn:ANd9GcQA7Z6CSUIRVO_I4Od5cm12HrkUxqRIf8PjN9imlzcx10sRMktg"/>
          <p:cNvPicPr/>
          <p:nvPr/>
        </p:nvPicPr>
        <p:blipFill>
          <a:blip r:embed="rId1"/>
          <a:stretch/>
        </p:blipFill>
        <p:spPr>
          <a:xfrm>
            <a:off x="1523880" y="1582560"/>
            <a:ext cx="51055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 chemicals that kill crop-destroying  ins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ttp://i00.i.aliimg.com/photo/v0/114378710/PESTICIDES.jpg"/>
          <p:cNvPicPr/>
          <p:nvPr/>
        </p:nvPicPr>
        <p:blipFill>
          <a:blip r:embed="rId1"/>
          <a:stretch/>
        </p:blipFill>
        <p:spPr>
          <a:xfrm>
            <a:off x="1197000" y="1387440"/>
            <a:ext cx="6194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4:42Z</dcterms:modified>
  <cp:revision>11</cp:revision>
  <dc:subject/>
  <dc:title>Chapter 5 – India Vocabulary</dc:title>
</cp:coreProperties>
</file>